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4300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4300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F295-3B40-4139-91FC-E2F11C2A12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9A5C-B9C5-44D4-B131-E5C459A72C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5BB-AE40-42BD-BB5D-42CA9DFD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1A5-AEC4-4E11-8C65-25CFC6EA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D679F-D403-481F-ABAB-56698183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3F5DD-F8C1-40F5-91BF-24E273D2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2E44B-A079-49B8-A007-E70EFDED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ED34D-66AD-4426-957C-024ADFDE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D8C23-D07D-4930-8A6A-BBC509F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2541B-762B-4F61-B113-3B70B55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D8E75-DE8F-4AC6-A156-377EDF4E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11858-F8C7-4A4E-A2B3-DB3E9990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53546-E07C-49E6-A673-859D81E0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EF2A-19C9-4284-ABB4-5BCB73AE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D10C-40DD-4D8F-80A4-EEF925C2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58D2-0DAC-4572-BDF9-20A90420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1D00-130F-42A4-B9E9-553BB04F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6866-D91C-4735-8635-153DAC38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110F-694A-4991-B334-99365CE9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0204-040C-452A-86AF-64EA1228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A56D-97CD-4661-B9B5-40B8296B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BB9B-19CE-4558-A3F8-E2E2AA37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C25-9FBB-4089-9857-F55EEA59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313C-9152-43EB-BEF8-6B147A72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863A-FCA6-4B2C-AC27-87A7CA9F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C701-F501-4643-8F4C-4CC47F79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28D0-1447-4858-B893-A15C08AA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4AAD-FE07-468E-8A09-AD3E9909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DFF4-C596-400C-8431-8B317E6A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85164-CDEB-43D1-B5E1-44F611C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E229-21ED-4E36-8378-DC8F0C71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5ADD7-CCF2-46C3-A3DC-BE292374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9EC9-2988-4147-BA80-6782A53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1EA-95C4-43EE-A26E-8276786E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BA36-CE45-4CB7-8EA8-8F89D600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57532-19E5-461F-83D4-83056C49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D854-CA90-4E2A-B7EE-7D5E8C39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E5E6-1AC4-40F3-9612-36F1CE89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B4BD-01E9-48D0-9BC5-FA0CE55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38AB-AB3E-42D5-9202-E5EDF416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FAF9B-638D-4D6F-9B33-A42B7D29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04D8-27C4-4AAC-A906-2B19AE60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403E-3551-4665-B076-3DD3D6FD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BFE19-CCE9-4A98-9417-7B6E71A2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0D8-C81D-4FAD-81E5-B8E1AEE7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C8AD-EC67-44B5-8445-CD465941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4859-3F41-416D-B6F8-7C964B27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69108-899F-4D5D-A068-E57475E6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5711E-18CA-4C09-BC65-42FE2432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929BA-660E-4170-8E96-F3797C9A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8EFF-3C7B-46D7-9F34-5A47C202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85C5-FF86-4DA0-BE73-71D67CA9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3E4D9-B2AE-4240-B74F-95C5AF4B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14A6-7CD3-492A-AE42-9B215D1C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B5D7-3DD5-41B5-9699-197D4831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3FA-89F5-4073-9C2B-3CEA9B0D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0A2B2-5C62-42E4-8002-F81681D8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DD5A2-D7BA-4CA1-9E59-7AA0F399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B5875-7618-4340-85C0-0F168296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FED74-A392-4E4C-B0F3-8161564D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FD986-6042-4CE5-8362-DA05065B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04B3D-BF1C-4674-BA18-3ECDF922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56DAB-5A0E-4D3E-96D9-530EA9CD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14E54-7C6C-4FD5-8D41-EC1FF58E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AFBED-2A98-4B76-B8CC-FBF2074E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927D-AB48-4CC9-BB0F-0B16AC82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6C0-735F-4632-978F-B8FB9D75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05DCB-DA65-4D67-9C29-E08AA54D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D7BB-9CDB-4A48-B7ED-DE056F01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F3B9E-434E-4678-9AC5-1514FA43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D774C-4D0E-4C1E-9E5A-96A6A64C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11DDC-27FC-4E53-A612-AFA046D9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EFCA0-905E-4B74-8672-6E5AC199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B74A1-EFF7-48DB-8AB0-151C5B0D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D0478-0212-4946-A4F0-B49AF4B9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A19B-D5EA-4217-8FB7-53DA562F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11EAC-86BF-463B-8D19-FC4E424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660-20BC-42A6-A58C-91399861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1B49E-D20C-4EF9-BDC8-36681C43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EFF62-13F4-44E8-9F19-8E346892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777E-855A-424E-A0D5-17DDE648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74D48-6CAC-4169-8ED9-72B2F681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33408-AC54-44A4-8E12-C92A513D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62183-1EEC-4DCB-AC53-C1295410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7B8B3-6631-421E-8D70-1B63795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7BEF8-181D-467A-90C0-93E8D792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58F25-6D90-46E4-A844-1692A1A0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FC023-7466-418A-A21B-42BB7C99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636-ACD0-41E2-B05C-27513F89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0B11A-CC18-49DE-9BFD-55F2C8AC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4A00A-5D3B-444A-BD02-4349052F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DF481-F9F2-4FCF-98B5-929A6612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3C3F0-F3F4-481B-A59B-DD17FA7E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DCFB-55DF-42E4-9182-CF38010C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1B984-C609-49F3-91BC-E843E4FC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FA793-0286-4417-A4D8-7246800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C9F9F-954A-4C0C-BA63-75A4FBFE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4B3C9-CC32-4A09-85A8-9588DF83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BCFE8-37BF-4554-A61A-D89AA77F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714-D00E-4BD7-96DF-4DA117FC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CA34D-CC80-423D-951F-759B3DC1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5C5D7-2704-41F4-BFEF-FFB0E483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5C7A8-E612-41FA-BBD2-E540407B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48D2A-2F07-4EE2-8AAD-3EF30E5D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9C1BA-289B-4B1C-BCFA-6B360E80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C0144-A622-42BC-BE87-06CDF478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F3B92-4032-4F0D-BE19-726F8456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093CA-13B3-487E-9585-4E5D0901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13506-1601-4692-B9A8-989A34ED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8A04A-6527-46FC-99A8-D8D5DB10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462E-D11C-4FE2-AE6B-C58F3426B46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3980-CDCB-4BDC-8D27-CAEBFF4F44A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380C-D098-48C7-9C68-DBFC456480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05B3-04DE-4BA8-8266-2BD8A758EC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B87E-70BF-45D8-A16F-E6400D48CE4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A964-1B78-4454-9ECA-EA8821C230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64E0-DBAE-4C41-BF13-27DDA8613DF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58EA-EEDB-430A-B4FF-D635350225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C9FA-5239-4B18-B195-150E407F18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503280" y="529920"/>
            <a:ext cx="818352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йонный семинар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algn="ctr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еализация адаптированной образовательной программы для детей с ЗПР в условиях общеобразовательной школы»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Рисунок 3" descr=""/>
          <p:cNvPicPr/>
          <p:nvPr/>
        </p:nvPicPr>
        <p:blipFill>
          <a:blip r:embed="rId1"/>
          <a:stretch/>
        </p:blipFill>
        <p:spPr>
          <a:xfrm>
            <a:off x="3643200" y="4221000"/>
            <a:ext cx="1905120" cy="1171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ая часть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яет состав учебных предметов обязательных предметных областей, которые должны быть реализованы во всех имеющих государственную аккредитацию образовательных организациях, реализующих АООП НОО, и учебное время, отводимое на их изучение по классам (годам) обуч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учебного плана, формируемая участниками образовательных отношений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ет реализацию особых (специфических) образовательных потребностей, характерных для обучающихся с ЗПР, а также индивидуальных потребностей каждого обучающегос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ервом классе  и первом дополнительном классах эта часть отсутствуе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304920" y="115920"/>
            <a:ext cx="8686800" cy="14875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99840"/>
            <a:ext cx="8370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АООП НОО для обучающихся с ЗПР предусматривает использование базовых учебников для сверстников без ограничений здоровья. С учётом особых образовательных потребностей обучающихся с ЗПР применяются специальные приложения и дидактические материалы (преимущественное использование натуральной и иллюстративной наглядности), рабочие тетради и пр. на бумажных и (или) электронных носителях, обеспечивающих реализацию программы коррекционной работы и специальную поддержку освоения АООП НО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469800" y="195120"/>
            <a:ext cx="8229600" cy="1206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требованиями ФГОС НОО обучающихся с ОВЗ внеурочная деятельность организуется по направлениям развития лич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ховно-нравствен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циа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интеллектуа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екультур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ртивно-оздоровительно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8686800" cy="15544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24000" y="1268280"/>
            <a:ext cx="842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направлениями в коррекционной работе являются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помощь в овладении базовым содержанием обуч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эмоционально-личностной сферы и коррекция ее недостатков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деятельности и целенаправленное формирование высших психических функций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оизвольной регуляции деятельности и поведения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я нарушений устной и письменной речи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ребенку успеха в различных видах деятельности с целью предупреждения негативного отношения к учёбе, ситуации школьного обучения в целом, повышения мотивации к школьному обучени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Прямоугольник 1"/>
          <p:cNvSpPr/>
          <p:nvPr/>
        </p:nvSpPr>
        <p:spPr>
          <a:xfrm>
            <a:off x="324000" y="189000"/>
            <a:ext cx="83516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еся с ЗПР имеют право на прохожден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кущ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межуточной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ударственной итогов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ттестации освоения АООП НОО в иных форм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альные условия проведения текущей, промежуточной и итоговой (по итогам освоения АООП НОО) аттестации обучающихся с ЗПР включают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обую форму организации аттестации (в малой группе, индивидуальную) с учетом особых образовательных потребностей и индивидуальных особенностей обучающихся с ЗПР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ычную обстановку в классе (присутствие своего учителя, наличие привычных для обучающихся опор: наглядных схем, шаблонов общего хода выполнения заданий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утствие в начале работы этапа общей организации деятельност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аптированные инструкции с учетом особых образовательных потребностей и индивидуальных трудностей обучающихся с ЗП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ление дифференцированной помощи: стимулирующей, организующей, направляющ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еличение времени на выполнение зада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организации короткого перерыва (10-15 мин) при нарастании в поведении ребенка проявлений утомления, истощ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92160" y="249120"/>
            <a:ext cx="8893080" cy="14511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539280" y="24210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узы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ис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ческой культур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остранного язы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716000" y="2421000"/>
            <a:ext cx="40388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организато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дополнительного образо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567360" y="1268280"/>
            <a:ext cx="80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тат специалистов образовательной организа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ующе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ООП НОО обучающихся с ЗП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входи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ТАТ СПЕЦИАЛИСТОВ ОБРАЗОВАТЕЛЬНОЙ ОРГАНИЗАЦИИ, РЕАЛИЗУЮЩЕЙ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ООП НОО ОБУЧАЮЩИХСЯ С ЗПР ДОЛЖНЫ ВХОДИТЬ:</a:t>
            </a:r>
            <a:endParaRPr b="0" lang="en-US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олигофренопедагог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сихологи или педагоги-психолог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ст по адаптивной физкультур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едаго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й работни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работн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 реализации АООП НОО обучающихся с ЗПР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7.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ловиях обучения в одном классе с обучающимися, без ограничений здоровь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может временно или постоянно обеспечить (по рекомендации ПМПК) участ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юто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827920" cy="18716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560" y="1988640"/>
            <a:ext cx="85374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численность кл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бучаются дети с ЗПР, осваивающие вариант 7.1. АООП НОО,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должна превышать 25 обучающихся, число обучающихся с ЗПР в классе не должно превышать четыре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тальные обучающиеся –не имеющие ограничений по здоровь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ая численность кл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обучаются дети с ЗПР, осваивающие вариант 7.2. АООП НОО в классе (группе) не должна превышать 15 челове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58560" y="691920"/>
            <a:ext cx="817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ичество учащихся детей с ОВЗ на ставку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дефектолога (сурдопедагога, тифлопедагога) на каждые 6 - 12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-логопеда на каждые 6 - 12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-психолога на каждые 20 учащихся с ограниченными возможностями здоровья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ьютора, ассистента (помощника) на каждые 1 - 6 учащихся с ограниченными возможностями здоровь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487440" y="2262240"/>
            <a:ext cx="8686800" cy="136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03280" y="529920"/>
            <a:ext cx="818352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Министерство образования и науки Российской Федерации утвердило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от 19.12.2014 № 159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еральный  государственный образовательный стандарт начального общего образования обучающихся с ограниченными возможностями здоровья 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ом от 19.12.2014 № 1599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едеральный государственный образовательный стандарт начального общего образования обучающихся с умственной отсталостью (интеллектуальными нарушениями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ные стандарты применяется к правоотношениям, возникшим с 1 сентября 2016 год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лиц, зачисленных до 1 сентября 2016 г. для обучения по адаптированным образовательным программам осуществляется по ним до завершения обучен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варианта АООП НОО для обучающегося с ЗПР осуществляется на основе рекомендаций ПМПК, сформулированных по результатам его комплексного психолого-медико-педагогического обследования, в случае наличия у обучающегося инвалидности - с учетом ИПР и мнения родителей (законных представителей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своения АООП НОО сохраняется возможность перехода обучающегося с одного варианта АООП НОО на другой. Перевод обучающегося с ЗПР с одного варианта программы на другой осуществляется организацией на основании комплексной оценки результатов освоения АООП НОО, по рекомендации ПМПК и с учетом мнения родителей (законных представителей) в порядке, установленном законодательством Российской Федераци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34272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85840" y="45684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7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назначен для образования обучающихся с ЗПР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гших к моменту поступления в школу уровня психофизического развития, близкого возрастной норм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озволяющего получить НОО, полностью соответствующее по итоговым достижениям к моменту завершения обучения образованию обучающихся, не имеющих ограничений по возможностям здоровья, в те же сро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жения планируемых результатов освоения АООП НОО определяются по завершению обучения в начальной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руктуру АООП НОО обязательно включается Программа коррекционной работы, направленная на развитие социальных (жизненных) компетенций обучающегося и поддержку в освоении АООП НО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285840" y="240480"/>
            <a:ext cx="87152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 7.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назначен для образования обучающихся с ЗПР, которы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арактеризуются уровнем развития несколько ниже возрастной нор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тставание может проявляться в целом или локально в отдельных функциях (замедленный темп или неравномерное становление познавательной деятельност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ный вариант предполагает пролонгированные сроки обучения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ять л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за счет введения первого дополнительного кла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ижения планируемых результатов освоения АООП НОО определяются по завершению обучения в начальной школ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ой является организация специальных условий обучения и воспитания обучающихся с ЗПР, которые включают использование адаптированной образовательной программы, специальных методов обучения и воспитания, проведение индивидуальных и групповых коррекционно-развивающих занятий, направленных на коррекцию недостатков в физическом и (или) психическом развитии и формирование социальных (жизненных) компетенц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611280" y="603360"/>
            <a:ext cx="821520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ми направлениями в специальной поддержке обучающихся с ЗПР являю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довлетворение особых образовательных потребностей обучающихся с ЗПР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помощь в овладении базовым содержанием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эмоционально-личностной сферы и коррекция ее недостатков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ознавательной деятельности и целенаправленное формирование высших психических функц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оизвольной регуляции деятельности и повед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я нарушений устной и письменной ре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сихолого-педагогическая поддержка предполагает: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в формировании адекватных отношений между ребенком, учителями, одноклассниками и другими обучающимися, родителями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у по профилактике внутриличностных и межличностных конфликтов в классе, школе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держание эмоционально комфортной обстановки в классе;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щь в освоении нового учебного материала на уроке и, при необходимости, индивидуальной коррекционной помощи в освоении АООП НОО;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ение обучающемуся успеха в доступных ему видах деятельности с целью предупреждения у него негативного отношения к учебе и ситуации школьного обучения в целом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160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анта 7.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язательные предметные области учебного плана и учебные предметы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ответствуют ФГОС НО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здел III ФГОС НОО)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рекционная работа осуществляется во внеурочное время в объеме не менее 5 час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коррекционной работы разрабатывается  ОУ самостоятельно в соответств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ФГОС НОО обучающихся с ОВЗ и с учётом Примерной  АООП НОО обучающихся с ЗП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Закон РФ «Об образовании», ст. 12.6.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08080" y="414360"/>
            <a:ext cx="8783640" cy="884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й план должен соответствовать действующему законодательству Российской Федерации в области образования, обеспечивать введение в действие и реализацию требований ФГОС НОО обучающихся с ОВЗ и выполнение гигиенических требований к режиму образовательного процесса, установленных действующим СанПиНом.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ПиН 2.4.2.3286-15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ном плане представлены семь предметных областей и коррекционно-развивающая област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algn="ctr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лан состоит из двух частей — обязательной части и части, формируемой участниками образовательных отношений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06:55:56Z</dcterms:created>
  <dc:creator>ELENA</dc:creator>
  <dc:description/>
  <dc:language>en-US</dc:language>
  <cp:lastModifiedBy>Ольга Гарголина</cp:lastModifiedBy>
  <dcterms:modified xsi:type="dcterms:W3CDTF">2020-09-25T09:58:43Z</dcterms:modified>
  <cp:revision>159</cp:revision>
  <dc:subject/>
  <dc:title>Разработка адаптированной образовательной  программы для учащихся с ОВЗ в основной школе</dc:title>
</cp:coreProperties>
</file>