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835C-A70C-4522-8DA7-E6F553E61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46C2-B401-42DE-8ACD-DAB07D431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A42A-DD81-4669-94F6-403BE88DC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316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09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316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09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67CFF-5F40-491B-AB9A-0692F8B40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63F0-7BFA-4566-986E-DFA51386A2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D2C5F-A582-4613-936F-C41BF93CC6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6D07-7557-4898-96D2-0211F967DA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62C5-11EF-420F-B48C-2F06F3F6D7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A4CA-8A29-4682-BAC0-F0CDD774E3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675E-3870-4F1B-8AAA-2F523C27A2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9DB5-DE74-4652-9D0C-1F62ECBEB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6F74-F251-4F64-BAA5-4F1E6D565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F3B5-C6A7-4823-824F-F2F34E52E5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8C39-C428-4E0D-A9D0-4A0B5D7BB9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DC54-F750-4FC1-91B7-A50D557B49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ECBC0-0EE4-493C-9C35-21C78E6BB0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316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09840" y="159984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316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09840" y="3957480"/>
            <a:ext cx="26438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1DF8-B00E-4631-ABCF-594D42D5F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334A-6607-4D32-BF0C-8F8FB360B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132C-8247-4CF4-B0EB-7C5B32628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DCD4-6416-4060-8609-BE32B2C52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1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98A6-F9B3-48C7-BD7B-04989BF50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3C8E-D624-4934-AEBC-E0046DEDF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4880" y="395748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B2B7-5DC4-4479-95B8-C024410E6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4880" y="1599840"/>
            <a:ext cx="40071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196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4276-52A1-4453-BE2F-09D8C1FEC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2840" cy="6923160"/>
            <a:chOff x="0" y="0"/>
            <a:chExt cx="9132840" cy="6923160"/>
          </a:xfrm>
        </p:grpSpPr>
        <p:sp>
          <p:nvSpPr>
            <p:cNvPr id="1" name="AutoShape 2"/>
            <p:cNvSpPr/>
            <p:nvPr/>
          </p:nvSpPr>
          <p:spPr>
            <a:xfrm>
              <a:off x="0" y="3505320"/>
              <a:ext cx="3981600" cy="3116160"/>
            </a:xfrm>
            <a:custGeom>
              <a:avLst/>
              <a:gdLst>
                <a:gd name="textAreaLeft" fmla="*/ 0 w 3981600"/>
                <a:gd name="textAreaRight" fmla="*/ 3981960 w 3981600"/>
                <a:gd name="textAreaTop" fmla="*/ 0 h 3116160"/>
                <a:gd name="textAreaBottom" fmla="*/ 3116520 h 311616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0" y="3962520"/>
              <a:ext cx="3341520" cy="2535120"/>
            </a:xfrm>
            <a:custGeom>
              <a:avLst/>
              <a:gdLst>
                <a:gd name="textAreaLeft" fmla="*/ 0 w 3341520"/>
                <a:gd name="textAreaRight" fmla="*/ 3341880 w 3341520"/>
                <a:gd name="textAreaTop" fmla="*/ 0 h 2535120"/>
                <a:gd name="textAreaBottom" fmla="*/ 2535120 h 253512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3321000" y="5132520"/>
              <a:ext cx="5811840" cy="1485720"/>
            </a:xfrm>
            <a:custGeom>
              <a:avLst/>
              <a:gdLst>
                <a:gd name="textAreaLeft" fmla="*/ 0 w 5811840"/>
                <a:gd name="textAreaRight" fmla="*/ 5812200 w 581184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0" y="831960"/>
              <a:ext cx="1533600" cy="18856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5060880" y="1440"/>
              <a:ext cx="4068720" cy="3586320"/>
            </a:xfrm>
            <a:custGeom>
              <a:avLst/>
              <a:gdLst>
                <a:gd name="textAreaLeft" fmla="*/ 0 w 4068720"/>
                <a:gd name="textAreaRight" fmla="*/ 4069080 w 4068720"/>
                <a:gd name="textAreaTop" fmla="*/ 0 h 3586320"/>
                <a:gd name="textAreaBottom" fmla="*/ 3586680 h 358632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5595840" y="1440"/>
              <a:ext cx="3457800" cy="2382840"/>
            </a:xfrm>
            <a:custGeom>
              <a:avLst/>
              <a:gdLst>
                <a:gd name="textAreaLeft" fmla="*/ 0 w 3457800"/>
                <a:gd name="textAreaRight" fmla="*/ 3458160 w 3457800"/>
                <a:gd name="textAreaTop" fmla="*/ 0 h 2382840"/>
                <a:gd name="textAreaBottom" fmla="*/ 2383200 h 238284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0" y="1030320"/>
              <a:ext cx="1284120" cy="1268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68280"/>
                <a:gd name="textAreaBottom" fmla="*/ 1268280 h 12682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2452680"/>
              <a:ext cx="1198440" cy="15876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3673440" y="5446800"/>
              <a:ext cx="5040360" cy="1171440"/>
            </a:xfrm>
            <a:custGeom>
              <a:avLst/>
              <a:gdLst>
                <a:gd name="textAreaLeft" fmla="*/ 0 w 5040360"/>
                <a:gd name="textAreaRight" fmla="*/ 5040720 w 50403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0" y="640080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AutoShape 14"/>
            <p:cNvSpPr/>
            <p:nvPr/>
          </p:nvSpPr>
          <p:spPr>
            <a:xfrm>
              <a:off x="0" y="6400800"/>
              <a:ext cx="9132840" cy="52236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AutoShape 15"/>
            <p:cNvSpPr/>
            <p:nvPr/>
          </p:nvSpPr>
          <p:spPr>
            <a:xfrm>
              <a:off x="0" y="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8252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808200" y="363600"/>
              <a:ext cx="5049720" cy="320184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3201840"/>
                <a:gd name="textAreaBottom" fmla="*/ 3202200 h 320184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2133720" y="465120"/>
              <a:ext cx="3392280" cy="2825640"/>
            </a:xfrm>
            <a:custGeom>
              <a:avLst/>
              <a:gdLst>
                <a:gd name="textAreaLeft" fmla="*/ 0 w 3392280"/>
                <a:gd name="textAreaRight" fmla="*/ 3392640 w 3392280"/>
                <a:gd name="textAreaTop" fmla="*/ 0 h 2825640"/>
                <a:gd name="textAreaBottom" fmla="*/ 2825640 h 282564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4654440" y="2743200"/>
              <a:ext cx="4478400" cy="3745080"/>
            </a:xfrm>
            <a:custGeom>
              <a:avLst/>
              <a:gdLst>
                <a:gd name="textAreaLeft" fmla="*/ 0 w 4478400"/>
                <a:gd name="textAreaRight" fmla="*/ 4478760 w 4478400"/>
                <a:gd name="textAreaTop" fmla="*/ 0 h 3745080"/>
                <a:gd name="textAreaBottom" fmla="*/ 3745440 h 37450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5016600" y="2952720"/>
              <a:ext cx="3421080" cy="3059280"/>
            </a:xfrm>
            <a:custGeom>
              <a:avLst/>
              <a:gdLst>
                <a:gd name="textAreaLeft" fmla="*/ 0 w 3421080"/>
                <a:gd name="textAreaRight" fmla="*/ 3421440 w 342108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1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19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Text Box 22"/>
          <p:cNvSpPr/>
          <p:nvPr/>
        </p:nvSpPr>
        <p:spPr>
          <a:xfrm>
            <a:off x="45720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Text Box 23"/>
          <p:cNvSpPr/>
          <p:nvPr/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0A4A27-0CB7-4724-918B-FF7540BEBB7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32840" cy="6923160"/>
            <a:chOff x="0" y="0"/>
            <a:chExt cx="9132840" cy="6923160"/>
          </a:xfrm>
        </p:grpSpPr>
        <p:sp>
          <p:nvSpPr>
            <p:cNvPr id="61" name="AutoShape 2"/>
            <p:cNvSpPr/>
            <p:nvPr/>
          </p:nvSpPr>
          <p:spPr>
            <a:xfrm>
              <a:off x="0" y="3505320"/>
              <a:ext cx="3981600" cy="3116160"/>
            </a:xfrm>
            <a:custGeom>
              <a:avLst/>
              <a:gdLst>
                <a:gd name="textAreaLeft" fmla="*/ 0 w 3981600"/>
                <a:gd name="textAreaRight" fmla="*/ 3981960 w 3981600"/>
                <a:gd name="textAreaTop" fmla="*/ 0 h 3116160"/>
                <a:gd name="textAreaBottom" fmla="*/ 3116520 h 311616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3"/>
            <p:cNvSpPr/>
            <p:nvPr/>
          </p:nvSpPr>
          <p:spPr>
            <a:xfrm>
              <a:off x="0" y="3962520"/>
              <a:ext cx="3341520" cy="2535120"/>
            </a:xfrm>
            <a:custGeom>
              <a:avLst/>
              <a:gdLst>
                <a:gd name="textAreaLeft" fmla="*/ 0 w 3341520"/>
                <a:gd name="textAreaRight" fmla="*/ 3341880 w 3341520"/>
                <a:gd name="textAreaTop" fmla="*/ 0 h 2535120"/>
                <a:gd name="textAreaBottom" fmla="*/ 2535120 h 253512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4"/>
            <p:cNvSpPr/>
            <p:nvPr/>
          </p:nvSpPr>
          <p:spPr>
            <a:xfrm>
              <a:off x="3321000" y="5132520"/>
              <a:ext cx="5811840" cy="1485720"/>
            </a:xfrm>
            <a:custGeom>
              <a:avLst/>
              <a:gdLst>
                <a:gd name="textAreaLeft" fmla="*/ 0 w 5811840"/>
                <a:gd name="textAreaRight" fmla="*/ 5812200 w 5811840"/>
                <a:gd name="textAreaTop" fmla="*/ 0 h 1485720"/>
                <a:gd name="textAreaBottom" fmla="*/ 1486080 h 148572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AutoShape 5"/>
            <p:cNvSpPr/>
            <p:nvPr/>
          </p:nvSpPr>
          <p:spPr>
            <a:xfrm>
              <a:off x="0" y="831960"/>
              <a:ext cx="1533600" cy="1885680"/>
            </a:xfrm>
            <a:custGeom>
              <a:avLst/>
              <a:gdLst>
                <a:gd name="textAreaLeft" fmla="*/ 0 w 1533600"/>
                <a:gd name="textAreaRight" fmla="*/ 1533960 w 1533600"/>
                <a:gd name="textAreaTop" fmla="*/ 0 h 1885680"/>
                <a:gd name="textAreaBottom" fmla="*/ 1886040 h 188568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AutoShape 6"/>
            <p:cNvSpPr/>
            <p:nvPr/>
          </p:nvSpPr>
          <p:spPr>
            <a:xfrm>
              <a:off x="5060880" y="1440"/>
              <a:ext cx="4068720" cy="3586320"/>
            </a:xfrm>
            <a:custGeom>
              <a:avLst/>
              <a:gdLst>
                <a:gd name="textAreaLeft" fmla="*/ 0 w 4068720"/>
                <a:gd name="textAreaRight" fmla="*/ 4069080 w 4068720"/>
                <a:gd name="textAreaTop" fmla="*/ 0 h 3586320"/>
                <a:gd name="textAreaBottom" fmla="*/ 3586680 h 358632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AutoShape 7"/>
            <p:cNvSpPr/>
            <p:nvPr/>
          </p:nvSpPr>
          <p:spPr>
            <a:xfrm>
              <a:off x="5595840" y="1440"/>
              <a:ext cx="3457800" cy="2382840"/>
            </a:xfrm>
            <a:custGeom>
              <a:avLst/>
              <a:gdLst>
                <a:gd name="textAreaLeft" fmla="*/ 0 w 3457800"/>
                <a:gd name="textAreaRight" fmla="*/ 3458160 w 3457800"/>
                <a:gd name="textAreaTop" fmla="*/ 0 h 2382840"/>
                <a:gd name="textAreaBottom" fmla="*/ 2383200 h 238284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0" y="1030320"/>
              <a:ext cx="1284120" cy="1268280"/>
            </a:xfrm>
            <a:custGeom>
              <a:avLst/>
              <a:gdLst>
                <a:gd name="textAreaLeft" fmla="*/ 0 w 1284120"/>
                <a:gd name="textAreaRight" fmla="*/ 1284480 w 1284120"/>
                <a:gd name="textAreaTop" fmla="*/ 0 h 1268280"/>
                <a:gd name="textAreaBottom" fmla="*/ 1268280 h 12682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AutoShape 9"/>
            <p:cNvSpPr/>
            <p:nvPr/>
          </p:nvSpPr>
          <p:spPr>
            <a:xfrm>
              <a:off x="0" y="2452680"/>
              <a:ext cx="1198440" cy="15876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0"/>
            <p:cNvSpPr/>
            <p:nvPr/>
          </p:nvSpPr>
          <p:spPr>
            <a:xfrm>
              <a:off x="3673440" y="5446800"/>
              <a:ext cx="5040360" cy="1171440"/>
            </a:xfrm>
            <a:custGeom>
              <a:avLst/>
              <a:gdLst>
                <a:gd name="textAreaLeft" fmla="*/ 0 w 5040360"/>
                <a:gd name="textAreaRight" fmla="*/ 5040720 w 50403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13"/>
            <p:cNvSpPr/>
            <p:nvPr/>
          </p:nvSpPr>
          <p:spPr>
            <a:xfrm>
              <a:off x="0" y="640080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14"/>
            <p:cNvSpPr/>
            <p:nvPr/>
          </p:nvSpPr>
          <p:spPr>
            <a:xfrm>
              <a:off x="0" y="6400800"/>
              <a:ext cx="9132840" cy="52236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AutoShape 15"/>
            <p:cNvSpPr/>
            <p:nvPr/>
          </p:nvSpPr>
          <p:spPr>
            <a:xfrm>
              <a:off x="0" y="0"/>
              <a:ext cx="9132840" cy="446040"/>
            </a:xfrm>
            <a:custGeom>
              <a:avLst/>
              <a:gdLst>
                <a:gd name="textAreaLeft" fmla="*/ 0 w 9132840"/>
                <a:gd name="textAreaRight" fmla="*/ 9133200 w 913284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8252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16"/>
            <p:cNvSpPr/>
            <p:nvPr/>
          </p:nvSpPr>
          <p:spPr>
            <a:xfrm>
              <a:off x="808200" y="363600"/>
              <a:ext cx="5049720" cy="3201840"/>
            </a:xfrm>
            <a:custGeom>
              <a:avLst/>
              <a:gdLst>
                <a:gd name="textAreaLeft" fmla="*/ 0 w 5049720"/>
                <a:gd name="textAreaRight" fmla="*/ 5050080 w 5049720"/>
                <a:gd name="textAreaTop" fmla="*/ 0 h 3201840"/>
                <a:gd name="textAreaBottom" fmla="*/ 3202200 h 320184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AutoShape 17"/>
            <p:cNvSpPr/>
            <p:nvPr/>
          </p:nvSpPr>
          <p:spPr>
            <a:xfrm>
              <a:off x="2133720" y="465120"/>
              <a:ext cx="3392280" cy="2825640"/>
            </a:xfrm>
            <a:custGeom>
              <a:avLst/>
              <a:gdLst>
                <a:gd name="textAreaLeft" fmla="*/ 0 w 3392280"/>
                <a:gd name="textAreaRight" fmla="*/ 3392640 w 3392280"/>
                <a:gd name="textAreaTop" fmla="*/ 0 h 2825640"/>
                <a:gd name="textAreaBottom" fmla="*/ 2825640 h 282564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AutoShape 18"/>
            <p:cNvSpPr/>
            <p:nvPr/>
          </p:nvSpPr>
          <p:spPr>
            <a:xfrm>
              <a:off x="4654440" y="2743200"/>
              <a:ext cx="4478400" cy="3745080"/>
            </a:xfrm>
            <a:custGeom>
              <a:avLst/>
              <a:gdLst>
                <a:gd name="textAreaLeft" fmla="*/ 0 w 4478400"/>
                <a:gd name="textAreaRight" fmla="*/ 4478760 w 4478400"/>
                <a:gd name="textAreaTop" fmla="*/ 0 h 3745080"/>
                <a:gd name="textAreaBottom" fmla="*/ 3745440 h 37450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50000">
                  <a:srgbClr val="ea9306"/>
                </a:gs>
                <a:gs pos="100000">
                  <a:srgbClr val="fac12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AutoShape 19"/>
            <p:cNvSpPr/>
            <p:nvPr/>
          </p:nvSpPr>
          <p:spPr>
            <a:xfrm>
              <a:off x="5016600" y="2952720"/>
              <a:ext cx="3421080" cy="3059280"/>
            </a:xfrm>
            <a:custGeom>
              <a:avLst/>
              <a:gdLst>
                <a:gd name="textAreaLeft" fmla="*/ 0 w 3421080"/>
                <a:gd name="textAreaRight" fmla="*/ 3421440 w 3421080"/>
                <a:gd name="textAreaTop" fmla="*/ 0 h 3059280"/>
                <a:gd name="textAreaBottom" fmla="*/ 3059640 h 30592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775476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457200" y="6248520"/>
            <a:ext cx="2125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16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506515-EE2E-4568-A043-B84D19E13F6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85800" y="457200"/>
            <a:ext cx="7772400" cy="57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РАЗВИТИЕ СИСТЕМЫ ВЗАИМО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МКУДО ЦППМСП С ОБЩЕОБРАЗОВАТЕЛЬНЫМИ УЧРЕЖДЕНИЯМИ КИРОВСКОГО РАЙОНА ЛЕНИНГРАДСКОЙ ОБЛАСТИ и службами профилакт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214200" y="671400"/>
            <a:ext cx="85010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</a:rPr>
              <a:t>Актуальность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данной проблемы состоит в том, что с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каждым годом увеличивается количество детей имеющих проблемы в развитии связанные с ограниченными возможностями  их здоровья:  нарушением рече-мыслительной деятельности , познавательных процессов,эмоционально-волевой сферы, внимания и поведения, повышенной утомляемостью, нарушением дисгармоничного семейного воспитания (психический инфантилизм, агрессивность , страхи, тревожность) ,  приводяшие к формированию личности по невротическому типу и ПХР. Количество детей, имеющих вышеперечисленные проблемы в развитии ,    составляет 15-16% от обшего числа  ежегодно поступающих в  1-е классы общеобразовательных школ учащихся . Интеграция таких детей в общеобразовательного пространство Кировского района Лен. области безусловно нуждается в особом внимании , поддержке, и индивидуальном подходе в процессе обучения, а следовательно в ПП сопровождении. В связи с тем, что  Территориальная ПМПК работающая на базе МКУДО ЦППМСП занимается выявлением таких детей , специалисты центра берут на себя  обязанности по оказанию консультативной  ПП помощи образовательным учреждениям  района  в организации методического и  ПП сопровождения  а также, индивидуального подхода в обучении с учетом особеностей развития детей.( МПП обследование, консультирование педагогов, родителей, семинаров, практикумов, тренингов, организация работы РМО психологов, дефектологов, проведение  совместных консилиумов. Просветительская работа со СМ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214200" y="6714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"/>
          <p:cNvSpPr/>
          <p:nvPr/>
        </p:nvSpPr>
        <p:spPr>
          <a:xfrm>
            <a:off x="324000" y="404640"/>
            <a:ext cx="8569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АДАЧИ ПРОГРАМ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оказание психолого-педагогической, медицинской и социальной помощи детям, испытывающим трудности в освоении основных общеобразовательных программ, развитии и социальной адаптации, в том числе детям с ОВЗ и детям-инвалидам, несовершеннолетним правонарушителям и др. категори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внедрение инновационных подходов и современных технологий психолого-педагогической, медицинской и социальной помощи детям и их ближайшему окружению,  оказание помощи организациям, осуществляющим образовательную деятельность, по вопросам обучения и воспитания,   повышение квалификации участников образовательного процесс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- обеспечение психологически комфортных, педагогически и социально оправданных условий психолого-педагогической, медицинской и социальной помощи, соответствующих требованиям надзорных органов и повышающих удовлетворенность потребителей образовательных услуг МКУДО ЦППМСП совершенствование материально-технической базы,  совершенствование деятельности ПМ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131760"/>
            <a:ext cx="822168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РАБОТА ТЕРРИТОРИАЛЬНОЙ ПМП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79280" y="1600200"/>
            <a:ext cx="8499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едико-психолого-педагогическая 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диагностика: 1756 ребёнка и подрост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следовано за 2019-2020 уч. год, из них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интегрированных в общеобразователь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ространство с 1 по 9 класс -454 ребё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едико-психолого-педагогическо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онсультирова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одителей – 1023  ч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дагогов — 175 ч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6443640" y="2060640"/>
            <a:ext cx="2357640" cy="3744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179280" y="561960"/>
            <a:ext cx="158436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967280" y="3384720"/>
            <a:ext cx="25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519120" y="692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учение  в группах коррекционно-развивающей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направленности в МКУДО ЦППМСП по прогр. доп.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раз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1. Группы коррекции и развития школьных навыков письма и чтения и речемыслительных процес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2. Группа коррекции и развития познавательных способностей и каллиграф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3.Группа коррекции личностных проблем и развития коммуникативных способностей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сего получают помощь течение года 31 учащийся 1-х-2-х клас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общеобразовательных школ г. Кировска нуждающихся в помощи логопеда, психолога , дефектолога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7612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27120" y="-17136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П сопровождение несовершеннолетн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6e6e6"/>
                </a:solidFill>
                <a:latin typeface="Arial"/>
              </a:rPr>
              <a:t>правонарушителей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 течение 3-х лет в рамках програм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восстановительного правосудия  проведены 12 процеду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примирения сторо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130400" y="122400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472000" y="3284640"/>
            <a:ext cx="3672000" cy="20016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55640" y="2349360"/>
            <a:ext cx="46432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e6e6e6"/>
                </a:solidFill>
                <a:latin typeface="Arial"/>
              </a:rPr>
              <a:t>Подготовка и предоставление в суд, органы предварительного расследования информации о личности несовершеннолетнего  правонарушителя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: В течение работы специалисты центра участвовали в рассмотрении дел 42-х подростков-подсудимых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216000" y="3311640"/>
            <a:ext cx="8207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ПП сопровождение интеграции детей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 ОВЗ в общеобразовательно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остранство осуществляется через взаимодействие  Территориальной ПМПК и ПМП консилиумов образовательных учреждений на основе  совместного договора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 течение  учебного года проходит более 30 совместных выездных заседаний ТПМПК и ПП косилиумов  дошкольных и школьных учреждений района, с целью подведения итогов работы коррекционных групп и организации ПП сопровождения детей группы риска на период адаптации в школе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1600200"/>
            <a:ext cx="11620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120"/>
            </a:gs>
            <a:gs pos="100000">
              <a:srgbClr val="ea93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13176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2"/>
          <p:cNvGrpSpPr/>
          <p:nvPr/>
        </p:nvGrpSpPr>
        <p:grpSpPr>
          <a:xfrm>
            <a:off x="914400" y="1778040"/>
            <a:ext cx="7308720" cy="4060800"/>
            <a:chOff x="914400" y="1778040"/>
            <a:chExt cx="7308720" cy="4060800"/>
          </a:xfrm>
        </p:grpSpPr>
        <p:sp>
          <p:nvSpPr>
            <p:cNvPr id="139" name="Line 3"/>
            <p:cNvSpPr/>
            <p:nvPr/>
          </p:nvSpPr>
          <p:spPr>
            <a:xfrm flipH="1" flipV="1">
              <a:off x="3246120" y="2965320"/>
              <a:ext cx="795240" cy="54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4"/>
            <p:cNvSpPr/>
            <p:nvPr/>
          </p:nvSpPr>
          <p:spPr>
            <a:xfrm>
              <a:off x="1895400" y="2155680"/>
              <a:ext cx="1660680" cy="9306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мите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циальн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защи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 flipH="1" flipV="1">
              <a:off x="2549520" y="3645000"/>
              <a:ext cx="1208160" cy="141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914400" y="311148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бщеобразователь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школ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H="1">
              <a:off x="2792520" y="4097160"/>
              <a:ext cx="1063440" cy="328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8"/>
            <p:cNvSpPr/>
            <p:nvPr/>
          </p:nvSpPr>
          <p:spPr>
            <a:xfrm>
              <a:off x="1255680" y="419904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МДОУ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3859200" y="4303800"/>
              <a:ext cx="433440" cy="625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2759040" y="490860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Детски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дом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4856040" y="4303800"/>
              <a:ext cx="403200" cy="623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4718160" y="490860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Цент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Социально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реабилитации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13"/>
            <p:cNvSpPr/>
            <p:nvPr/>
          </p:nvSpPr>
          <p:spPr>
            <a:xfrm>
              <a:off x="5294160" y="4097160"/>
              <a:ext cx="1032120" cy="325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6221520" y="419904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ррекционные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Школы-интернаты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 flipV="1">
              <a:off x="5392800" y="3642840"/>
              <a:ext cx="1173240" cy="142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6562800" y="3111480"/>
              <a:ext cx="166032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ПП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ДН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17"/>
            <p:cNvSpPr/>
            <p:nvPr/>
          </p:nvSpPr>
          <p:spPr>
            <a:xfrm flipV="1">
              <a:off x="5106960" y="2965320"/>
              <a:ext cx="760320" cy="54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5581800" y="2155680"/>
              <a:ext cx="1660320" cy="93060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Комитет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бразова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9"/>
            <p:cNvSpPr/>
            <p:nvPr/>
          </p:nvSpPr>
          <p:spPr>
            <a:xfrm flipV="1">
              <a:off x="4572000" y="2698920"/>
              <a:ext cx="0" cy="69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3736800" y="177804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Отдел опеки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И попечительств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3736800" y="3394080"/>
              <a:ext cx="1660680" cy="9302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" name="Picture 22" descr=""/>
          <p:cNvPicPr/>
          <p:nvPr/>
        </p:nvPicPr>
        <p:blipFill>
          <a:blip r:embed="rId1"/>
          <a:stretch/>
        </p:blipFill>
        <p:spPr>
          <a:xfrm>
            <a:off x="3629160" y="3284640"/>
            <a:ext cx="1885680" cy="1081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3"/>
          <p:cNvSpPr/>
          <p:nvPr/>
        </p:nvSpPr>
        <p:spPr>
          <a:xfrm>
            <a:off x="457200" y="130320"/>
            <a:ext cx="8228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циальное взаимодействие МКУДО ЦППМСП по ППсопровождению  детей с ОВ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6:52:08Z</dcterms:created>
  <dc:creator>user</dc:creator>
  <dc:description/>
  <dc:language>en-US</dc:language>
  <cp:lastModifiedBy>ЦДиК</cp:lastModifiedBy>
  <dcterms:modified xsi:type="dcterms:W3CDTF">2020-10-08T07:42:40Z</dcterms:modified>
  <cp:revision>64</cp:revision>
  <dc:subject/>
  <dc:title>ИСПОЛЬЗОВАНИЕ ИНДИВИДУАЛЬНОГО ПОДХОДА В ПРОЦЕССЕ ОБУЧЕНИЯ И ПСИХОЛОГО-ПЕДАГОГИЧЕСКОГО СОПРОВОЖДЕНИЯ</dc:title>
</cp:coreProperties>
</file>